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mbria"/>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43C9-E603-457E-AAE8-484EB3E033F6}"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E2AA-27F0-4D8B-BB2A-03776653E6ED}"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D02A-8227-49BC-BB1C-B557B8A66DE1}"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FCA8-8958-4960-90B1-FD0F663E9EED}"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FC24-615D-4302-962B-A1472EDD54C2}"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0C2F-FB30-4725-9D61-E21F0E0285CE}"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4AB7-366B-4DED-BD7A-8A098548F23A}"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7FC1-DC09-4879-81E7-77D3EA1EA86E}"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39C7-9A54-426C-A19C-B14ADE14F7FD}"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F29D-A8FD-4560-9D36-4E6F40D65625}"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2C10-FE10-4B3B-A8EF-E3A1FD81FA03}"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8E80-4555-40C6-B0F8-1776F0DDFAC3}" type="slidenum">
              <a:rPr b="0" lang="nl-NL" sz="1200" spc="-1" strike="noStrike">
                <a:solidFill>
                  <a:srgbClr val="ffffff"/>
                </a:solidFill>
                <a:latin typeface="Calibri"/>
              </a:rPr>
              <a:t>&lt;number&gt;</a:t>
            </a:fld>
            <a:endParaRPr b="0" lang="en-US" sz="1200" spc="-1" strike="noStrike">
              <a:solidFill>
                <a:srgbClr val="ffffff"/>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16787-13AF-47E6-864E-EA530CE08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0E94D-8FB4-463E-8851-F950E2E6D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C42B9-387E-4FF3-962B-703F90773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8EF01-955B-4CAF-85EA-FC9CCA6AC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EF04D-3520-4541-BAB4-BD6FB1073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BC873-74B2-45B2-B3FF-419C698F2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FE3EB-A7FB-4FC3-A01C-0B68E9F9B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DE210-5C58-4C0F-9B9F-BC5A2DA63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B5BD2-7F3D-4E00-8576-81E276702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8F493-9022-42AE-AE1F-504B9D1A0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7F270-A8C6-40B7-BA20-D800574BF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6870C-FEFB-4B61-B11B-65F8888B9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54239-2E2A-4472-B5E0-CC6569982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5A890-79C4-466A-81FF-794C5E7A8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F876F-8080-407B-982B-52CB0FD82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D30DE-CFBB-49C4-A270-F332093DF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3A5F8-9E8D-4A52-B99A-BC4EB5D50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BA4F01-53C6-41E8-B323-B913588365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E12138-7F55-45F8-B4BA-B0DE2B8A6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FAD7B8-AE18-4516-B60F-16EC356B24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D1AF9-2167-4886-8B6D-FB272A30F4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64524-569C-4359-A5A6-4C0C12072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20F87-FE81-447D-AB8B-7BA7CD0C7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38D661-BE07-4648-8F37-AA2E87C44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74390-CEA1-4A47-9987-52C398190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3BD6A-A38A-44B0-B154-AFD59C0D0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94873-0959-4D3A-9CEE-B347B74FB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DFAD39-E252-4D79-9EF5-C6B626CD25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9D3C60-C59D-47FA-9B81-7CC2B5BE59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E927D9-77C4-4278-9187-3A0E8C4A62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85BE47-6CB1-4D04-904A-9F003885E4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C6B2D3-987C-4695-97D3-AA6B37C704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63D095-568D-4908-9F34-AE54E47B7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7B506-B51F-4BB6-8D4E-E6B28D897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12170B-06FC-46F6-8D68-ACEEF76A0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85D45-A8E4-4EFA-8352-D2E656473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5D9F3A-C99A-4048-8CF8-AD894D637D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7EAA1-8E3C-4CFD-A721-1B1B1BD69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4989A-FAF7-4DB6-9456-9196DFD92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8FFF4-53DD-4674-B2DE-03A5BFDB8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2CD02-362A-4DD5-8F7B-E01AB3C86A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ABA6F1-60E1-41E4-8781-2E742A6E94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881530-65FC-4E82-A99A-F63346CD66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A10E41-DC29-4C51-B638-74DC7B44A5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A9EC8-31E7-4FC6-9C63-C88A2E4A4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0E281E-E127-483A-A2D1-89F0201160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64E264-A88F-47E1-B51B-D18C913451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77DFA6-BE63-4BA6-B729-E4141F5089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8CD19F-CB62-452F-8AF0-8399FFFFDD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05361B-83AF-4162-9CB2-0A92AB06C9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9BA1E7-7C2E-42D0-874D-A44E0725A9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51856-E4E3-49A8-9204-A815ABB5AF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ECD63-63D1-414B-975D-AC2A8E2D8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3DDFB7-9A85-453F-93FF-52DCA13950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AEE402-CA7D-48BE-A417-DF2E6926AE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4FFF8-2D5C-4943-BB70-785BA93C2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ED32F2-C1C1-4600-8B71-C66B8E58E1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A52DE7-11D4-4189-94DE-D573ACF865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B0014F-7A90-4D78-AC4A-2ED6E4C02E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BC9EF2-43AE-4E42-A887-F8D2832EA9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9FEAFE-540D-411B-B6C2-3A7EBDA7C2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58820-7728-40E4-B9BA-80E8D55018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4C21D2-4340-4E3F-807D-F0A62ABF1D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F5226B-566C-45BA-899E-6C7D1FE7A9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B29EC-A5CA-414D-B0E9-8414EC1B82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E8D3E2-0182-4CF2-AF38-C6B66E8C0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8CD70-B90E-4422-BBC4-4A36E3D20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77BA89-372C-4AEA-AAEE-8C95179D25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1201F3-F859-4210-82BC-AFDB174A89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19BD79-0DED-4217-8FAF-EB0D96C9AE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884E5-0967-44C0-8C6D-F3667A2CE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1288-A40F-438C-9C72-8650A432A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2-2-2011</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Ad Gerrits, Gemeente Nijmegen</a:t>
            </a:r>
            <a:endParaRPr b="0" lang="en-US" sz="10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8320-5654-48B6-83B4-6D56000A5143}"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44"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2-2-2011</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Ad Gerrits, Gemeente Nijmege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9782-15A9-40BB-ABA3-34BD51711810}"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87"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2-2-2011</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Ad Gerrits, Gemeente Nijmegen</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7972-1463-445D-9804-00ED320718FC}"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2-2-2011</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Ad Gerrits, Gemeente Nijmegen</a:t>
            </a:r>
            <a:endParaRPr b="0" lang="en-US" sz="10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4F74-74FF-4CE2-9204-4FD08B7D0138}"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17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Cambria"/>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2-2-2011</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Ad Gerrits, Gemeente Nijmegen</a:t>
            </a:r>
            <a:endParaRPr b="0" lang="en-US" sz="10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218C-29F9-4622-9F34-EBBE15A71C8E}"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2-2-2011</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Times New Roman"/>
              </a:rPr>
              <a:t>Ad Gerrits, Gemeente Nijmegen</a:t>
            </a:r>
            <a:endParaRPr b="0" lang="en-US" sz="10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DE7B-A708-4FA1-807C-8E58E30A3000}"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el 6" descr=""/>
          <p:cNvPicPr/>
          <p:nvPr/>
        </p:nvPicPr>
        <p:blipFill>
          <a:blip r:embed="rId1"/>
          <a:stretch/>
        </p:blipFill>
        <p:spPr>
          <a:xfrm>
            <a:off x="426960" y="3200400"/>
            <a:ext cx="6827760" cy="243828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To StUF Lite or not to StUF Lite, that’s the question</a:t>
            </a:r>
            <a:endParaRPr b="0" lang="en-US" sz="2000" spc="-1" strike="noStrike">
              <a:solidFill>
                <a:srgbClr val="ffffff"/>
              </a:solidFill>
              <a:latin typeface="Arial"/>
            </a:endParaRPr>
          </a:p>
        </p:txBody>
      </p:sp>
      <p:sp>
        <p:nvSpPr>
          <p:cNvPr id="263"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64"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65"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F370-0F7E-41D8-B25D-61C71D661A8F}"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Franklin Gothic Book"/>
              </a:rPr>
              <a:t>Conclusie 1</a:t>
            </a:r>
            <a:endParaRPr b="0" lang="en-US" sz="4600" spc="-1" strike="noStrike">
              <a:solidFill>
                <a:srgbClr val="ffffff"/>
              </a:solidFill>
              <a:latin typeface="Franklin Gothic Book"/>
            </a:endParaRPr>
          </a:p>
        </p:txBody>
      </p:sp>
      <p:sp>
        <p:nvSpPr>
          <p:cNvPr id="307" name=""/>
          <p:cNvSpPr txBox="1"/>
          <p:nvPr/>
        </p:nvSpPr>
        <p:spPr>
          <a:xfrm>
            <a:off x="826920" y="1916280"/>
            <a:ext cx="8066160" cy="41767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r is behoefte aan een eenvoudiger berichtformaat dan StUF in zijn huidige vorm biedt</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anbevelingen</a:t>
            </a:r>
            <a:endParaRPr b="0" lang="en-US" sz="2400" spc="-1" strike="noStrike">
              <a:solidFill>
                <a:srgbClr val="ffffff"/>
              </a:solidFill>
              <a:latin typeface="Arial"/>
            </a:endParaRPr>
          </a:p>
          <a:p>
            <a:pPr>
              <a:lnSpc>
                <a:spcPct val="15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art een project voor ontwikkeling van “StUF Lite”</a:t>
            </a:r>
            <a:endParaRPr b="0" lang="en-US" sz="2400" spc="-1" strike="noStrike">
              <a:solidFill>
                <a:srgbClr val="ffffff"/>
              </a:solidFill>
              <a:latin typeface="Arial"/>
            </a:endParaRPr>
          </a:p>
          <a:p>
            <a:pPr>
              <a:lnSpc>
                <a:spcPct val="15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ij afweging eenvoud-bruikbaarheid geldt in de regel kiezen voor eenvoud</a:t>
            </a:r>
            <a:endParaRPr b="0" lang="en-US" sz="2400" spc="-1" strike="noStrike">
              <a:solidFill>
                <a:srgbClr val="ffffff"/>
              </a:solidFill>
              <a:latin typeface="Arial"/>
            </a:endParaRPr>
          </a:p>
          <a:p>
            <a:pPr>
              <a:lnSpc>
                <a:spcPct val="15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org voor snelle oplevering van StUF Lite</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309"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310"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AFFA-296F-450B-A20F-5748BCDE1B06}"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12" name="" descr=""/>
          <p:cNvPicPr/>
          <p:nvPr/>
        </p:nvPicPr>
        <p:blipFill>
          <a:blip r:embed="rId1"/>
          <a:stretch/>
        </p:blipFill>
        <p:spPr>
          <a:xfrm>
            <a:off x="456840" y="1600200"/>
            <a:ext cx="7467480" cy="4525920"/>
          </a:xfrm>
          <a:prstGeom prst="rect">
            <a:avLst/>
          </a:prstGeom>
          <a:ln w="0">
            <a:noFill/>
          </a:ln>
        </p:spPr>
      </p:pic>
      <p:sp>
        <p:nvSpPr>
          <p:cNvPr id="313"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314"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315"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D26A-9AC3-4E25-A202-0A3BF6680176}"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Franklin Gothic Book"/>
              </a:rPr>
              <a:t>StUF Lite</a:t>
            </a:r>
            <a:endParaRPr b="0" lang="en-US" sz="4600" spc="-1" strike="noStrike">
              <a:solidFill>
                <a:srgbClr val="ffffff"/>
              </a:solidFill>
              <a:latin typeface="Franklin Gothic Book"/>
            </a:endParaRPr>
          </a:p>
        </p:txBody>
      </p:sp>
      <p:sp>
        <p:nvSpPr>
          <p:cNvPr id="267" name=""/>
          <p:cNvSpPr txBox="1"/>
          <p:nvPr/>
        </p:nvSpPr>
        <p:spPr>
          <a:xfrm>
            <a:off x="457200" y="1600200"/>
            <a:ext cx="8075520" cy="4525920"/>
          </a:xfrm>
          <a:prstGeom prst="rect">
            <a:avLst/>
          </a:prstGeom>
          <a:noFill/>
          <a:ln w="0">
            <a:noFill/>
          </a:ln>
        </p:spPr>
        <p:txBody>
          <a:bodyPr lIns="90000" rIns="90000" tIns="46800" bIns="46800" anchor="t">
            <a:normAutofit/>
          </a:bodyPr>
          <a:p>
            <a:pPr marL="457200" indent="-45720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Waarom StUF Lite?</a:t>
            </a:r>
            <a:endParaRPr b="0" lang="en-US" sz="3000" spc="-1" strike="noStrike">
              <a:solidFill>
                <a:srgbClr val="ffffff"/>
              </a:solidFill>
              <a:latin typeface="Arial"/>
            </a:endParaRPr>
          </a:p>
          <a:p>
            <a:pPr marL="457200" indent="-45720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Behoeften bij gemeenten en leveranciers</a:t>
            </a:r>
            <a:endParaRPr b="0" lang="en-US" sz="3000" spc="-1" strike="noStrike">
              <a:solidFill>
                <a:srgbClr val="ffffff"/>
              </a:solidFill>
              <a:latin typeface="Arial"/>
            </a:endParaRPr>
          </a:p>
          <a:p>
            <a:pPr marL="457200" indent="-45720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Globale technische uitwerking</a:t>
            </a:r>
            <a:endParaRPr b="0" lang="en-US" sz="3000" spc="-1" strike="noStrike">
              <a:solidFill>
                <a:srgbClr val="ffffff"/>
              </a:solidFill>
              <a:latin typeface="Arial"/>
            </a:endParaRPr>
          </a:p>
          <a:p>
            <a:pPr marL="457200" indent="-45720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Conclusies en aanbevelingen</a:t>
            </a:r>
            <a:endParaRPr b="0" lang="en-US" sz="3000" spc="-1" strike="noStrike">
              <a:solidFill>
                <a:srgbClr val="ffffff"/>
              </a:solidFill>
              <a:latin typeface="Arial"/>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57200" indent="-45720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57200" indent="-45720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69"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70"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BE75-A9F5-4DDE-BC4F-D754BE85B9BD}"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Franklin Gothic Book"/>
              </a:rPr>
              <a:t>Waarom StUF Lite?</a:t>
            </a:r>
            <a:endParaRPr b="0" lang="en-US" sz="4600" spc="-1" strike="noStrike">
              <a:solidFill>
                <a:srgbClr val="ffffff"/>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meenten wisselen gegevens uit met steeds meer (ook kleine) partijen</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UF is in veel gevallen te complex</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m gemeenten te ondersteunen in </a:t>
            </a:r>
            <a:r>
              <a:rPr b="0" i="1" lang="nl-NL" sz="2800" spc="-1" strike="noStrike">
                <a:solidFill>
                  <a:srgbClr val="ffffff"/>
                </a:solidFill>
                <a:latin typeface="Arial"/>
              </a:rPr>
              <a:t>de gestandaardiseerde uitwisseling van gegevens</a:t>
            </a:r>
            <a:r>
              <a:rPr b="0" lang="nl-NL" sz="2800" spc="-1" strike="noStrike">
                <a:solidFill>
                  <a:srgbClr val="ffffff"/>
                </a:solidFill>
                <a:latin typeface="Arial"/>
              </a:rPr>
              <a:t>, is naast het bestaande StUF formaat (ook) een eenvoudig, snel inzetbaar, berichtformaat nodig.</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74"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75"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2A97-7E55-451B-AB92-77D071F3FD03}"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5788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Franklin Gothic Book"/>
              </a:rPr>
              <a:t>Behoeftenpeiling gemeenten</a:t>
            </a:r>
            <a:endParaRPr b="0" lang="en-US" sz="4600" spc="-1" strike="noStrike">
              <a:solidFill>
                <a:srgbClr val="ffffff"/>
              </a:solidFill>
              <a:latin typeface="Franklin Gothic Book"/>
            </a:endParaRPr>
          </a:p>
        </p:txBody>
      </p:sp>
      <p:sp>
        <p:nvSpPr>
          <p:cNvPr id="277" name=""/>
          <p:cNvSpPr txBox="1"/>
          <p:nvPr/>
        </p:nvSpPr>
        <p:spPr>
          <a:xfrm>
            <a:off x="456840" y="1600200"/>
            <a:ext cx="7467480" cy="4525920"/>
          </a:xfrm>
          <a:prstGeom prst="rect">
            <a:avLst/>
          </a:prstGeom>
          <a:noFill/>
          <a:ln w="0">
            <a:noFill/>
          </a:ln>
        </p:spPr>
        <p:txBody>
          <a:bodyPr lIns="90000" rIns="90000" tIns="46800" bIns="46800" anchor="t">
            <a:normAutofit/>
          </a:bodyPr>
          <a:p>
            <a:pPr marL="36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6</a:t>
            </a:r>
            <a:r>
              <a:rPr b="0" lang="nl-NL" sz="3000" spc="-1" strike="noStrike">
                <a:solidFill>
                  <a:srgbClr val="ffffff"/>
                </a:solidFill>
                <a:latin typeface="Arial"/>
              </a:rPr>
              <a:t> </a:t>
            </a:r>
            <a:r>
              <a:rPr b="0" lang="nl-NL" sz="2400" spc="-1" strike="noStrike">
                <a:solidFill>
                  <a:srgbClr val="ffffff"/>
                </a:solidFill>
                <a:latin typeface="Arial"/>
              </a:rPr>
              <a:t>100K</a:t>
            </a:r>
            <a:r>
              <a:rPr b="0" lang="nl-NL" sz="2800" spc="-1" strike="noStrike">
                <a:solidFill>
                  <a:srgbClr val="ffffff"/>
                </a:solidFill>
                <a:latin typeface="Arial"/>
              </a:rPr>
              <a:t>-</a:t>
            </a:r>
            <a:r>
              <a:rPr b="0" lang="nl-NL" sz="3000" spc="-1" strike="noStrike">
                <a:solidFill>
                  <a:srgbClr val="ffffff"/>
                </a:solidFill>
                <a:latin typeface="Arial"/>
              </a:rPr>
              <a:t>gemeenten herkennen problematiek en lijkt StUF Lite ontwikkeling wenselijk</a:t>
            </a: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000" spc="-1" strike="noStrike">
                <a:solidFill>
                  <a:srgbClr val="ffffff"/>
                </a:solidFill>
                <a:latin typeface="Arial"/>
              </a:rPr>
              <a:t>enkele kleinere gemeenten geven    hetzelfde aan</a:t>
            </a: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1</a:t>
            </a:r>
            <a:r>
              <a:rPr b="0" lang="nl-NL" sz="3000" spc="-1" strike="noStrike">
                <a:solidFill>
                  <a:srgbClr val="ffffff"/>
                </a:solidFill>
                <a:latin typeface="Arial"/>
              </a:rPr>
              <a:t> </a:t>
            </a:r>
            <a:r>
              <a:rPr b="0" lang="nl-NL" sz="2400" spc="-1" strike="noStrike">
                <a:solidFill>
                  <a:srgbClr val="ffffff"/>
                </a:solidFill>
                <a:latin typeface="Arial"/>
              </a:rPr>
              <a:t>100K</a:t>
            </a:r>
            <a:r>
              <a:rPr b="0" lang="nl-NL" sz="2800" spc="-1" strike="noStrike">
                <a:solidFill>
                  <a:srgbClr val="ffffff"/>
                </a:solidFill>
                <a:latin typeface="Arial"/>
              </a:rPr>
              <a:t>-</a:t>
            </a:r>
            <a:r>
              <a:rPr b="0" lang="nl-NL" sz="3000" spc="-1" strike="noStrike">
                <a:solidFill>
                  <a:srgbClr val="ffffff"/>
                </a:solidFill>
                <a:latin typeface="Arial"/>
              </a:rPr>
              <a:t>gemeente kan behoefte </a:t>
            </a:r>
            <a:endParaRPr b="0" lang="en-US" sz="3000" spc="-1" strike="noStrike">
              <a:solidFill>
                <a:srgbClr val="ffffff"/>
              </a:solidFill>
              <a:latin typeface="Arial"/>
            </a:endParaRPr>
          </a:p>
          <a:p>
            <a:pPr marL="36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    </a:t>
            </a:r>
            <a:r>
              <a:rPr b="0" lang="nl-NL" sz="3000" spc="-1" strike="noStrike">
                <a:solidFill>
                  <a:srgbClr val="ffffff"/>
                </a:solidFill>
                <a:latin typeface="Arial"/>
              </a:rPr>
              <a:t>nog niet inschatten</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79"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80"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0E9F-8ED7-4757-A440-AADE2F13C971}"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9311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100" spc="-1" strike="noStrike">
                <a:solidFill>
                  <a:srgbClr val="ffffff"/>
                </a:solidFill>
                <a:latin typeface="Franklin Gothic Book"/>
              </a:rPr>
              <a:t>Behoeftenpeiling </a:t>
            </a:r>
            <a:br>
              <a:rPr sz="4100"/>
            </a:br>
            <a:r>
              <a:rPr b="0" lang="nl-NL" sz="2900" spc="-1" strike="noStrike">
                <a:solidFill>
                  <a:srgbClr val="ffffff"/>
                </a:solidFill>
                <a:latin typeface="Franklin Gothic Book"/>
              </a:rPr>
              <a:t>Verbeterdebuurt.nl, BuitenBeter, BurgerConnect</a:t>
            </a:r>
            <a:endParaRPr b="0" lang="en-US" sz="29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lIns="90000" rIns="90000" tIns="46800" bIns="46800" anchor="t">
            <a:normAutofit/>
          </a:bodyPr>
          <a:p>
            <a:pPr marL="36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2 gereageerd</a:t>
            </a: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1 erg enthousiast over eventuele StUF Lite ontwikkeling</a:t>
            </a: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1 denkt dat betere ondersteuning StUF ook kan werken</a:t>
            </a: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beide willen meewerken aan eventueel ontwikkeltraject van StUF Lite</a:t>
            </a:r>
            <a:endParaRPr b="0" lang="en-US" sz="3000" spc="-1" strike="noStrike">
              <a:solidFill>
                <a:srgbClr val="ffffff"/>
              </a:solidFill>
              <a:latin typeface="Arial"/>
            </a:endParaRPr>
          </a:p>
          <a:p>
            <a:pPr marL="3636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84"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85"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9360-86D8-4FE7-8BEC-91912F7D0363}"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Franklin Gothic Book"/>
              </a:rPr>
              <a:t>Een wijkwebsite email:</a:t>
            </a:r>
            <a:endParaRPr b="0" lang="en-US" sz="4600" spc="-1" strike="noStrike">
              <a:solidFill>
                <a:srgbClr val="ffffff"/>
              </a:solidFill>
              <a:latin typeface="Franklin Gothic Book"/>
            </a:endParaRPr>
          </a:p>
        </p:txBody>
      </p:sp>
      <p:sp>
        <p:nvSpPr>
          <p:cNvPr id="287" name=""/>
          <p:cNvSpPr txBox="1"/>
          <p:nvPr/>
        </p:nvSpPr>
        <p:spPr>
          <a:xfrm>
            <a:off x="456840" y="1600200"/>
            <a:ext cx="7467480" cy="4525920"/>
          </a:xfrm>
          <a:prstGeom prst="rect">
            <a:avLst/>
          </a:prstGeom>
          <a:noFill/>
          <a:ln w="0">
            <a:noFill/>
          </a:ln>
        </p:spPr>
        <p:txBody>
          <a:bodyPr lIns="90000" rIns="90000" tIns="46800" bIns="46800" anchor="t">
            <a:normAutofit/>
          </a:bodyPr>
          <a:p>
            <a:pPr marL="36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ffffff"/>
                </a:solidFill>
                <a:latin typeface="Arial"/>
              </a:rPr>
              <a:t>Buurtbewoners kunnen nu ook op het kaartje in de BuurtRadar klikken om een melding te doen van een incident in de buurt (openbare ruimte).  Dit werkt op dezelfde manier als bijv. Verbeter de buurt en andere vergelijkbare initiatieven. Met dit verschil dat het geïntegreerd is in een wijkwebsite waar veel mensen toch al vaak komen.</a:t>
            </a:r>
            <a:endParaRPr b="0" lang="en-US" sz="2100" spc="-1" strike="noStrike">
              <a:solidFill>
                <a:srgbClr val="ffffff"/>
              </a:solidFill>
              <a:latin typeface="Arial"/>
            </a:endParaRPr>
          </a:p>
          <a:p>
            <a:pPr marL="36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ffffff"/>
                </a:solidFill>
                <a:latin typeface="Arial"/>
              </a:rPr>
              <a:t> </a:t>
            </a:r>
            <a:endParaRPr b="0" lang="en-US" sz="2100" spc="-1" strike="noStrike">
              <a:solidFill>
                <a:srgbClr val="ffffff"/>
              </a:solidFill>
              <a:latin typeface="Arial"/>
            </a:endParaRPr>
          </a:p>
          <a:p>
            <a:pPr marL="36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ffffff"/>
                </a:solidFill>
                <a:latin typeface="Arial"/>
              </a:rPr>
              <a:t>De bedoeling is dat deze melding direct terecht komt bij de verantwoordelijke afdeling binnen de gemeente. Maar Paul vertelde me dat jij bezig bent </a:t>
            </a:r>
            <a:r>
              <a:rPr b="0" lang="nl-NL" sz="2100" spc="-1" strike="noStrike">
                <a:solidFill>
                  <a:srgbClr val="f7df56"/>
                </a:solidFill>
                <a:latin typeface="Arial"/>
              </a:rPr>
              <a:t>met een standaardindeling van dit bericht, zodat dit makkelijk en goed in jullie applicaties terecht komt.  </a:t>
            </a:r>
            <a:r>
              <a:rPr b="0" lang="nl-NL" sz="2100" spc="-1" strike="noStrike">
                <a:solidFill>
                  <a:srgbClr val="ffff00"/>
                </a:solidFill>
                <a:latin typeface="Arial"/>
              </a:rPr>
              <a:t>Zou je me de definitie hiervan (XML neem ik aan?) kunnen toesturen? Dan zorg ik dat wij het zo kunnen aanleveren. </a:t>
            </a:r>
            <a:r>
              <a:rPr b="0" lang="nl-NL" sz="2100" spc="-1" strike="noStrike">
                <a:solidFill>
                  <a:srgbClr val="f7df56"/>
                </a:solidFill>
                <a:latin typeface="Arial"/>
              </a:rPr>
              <a:t>Het liefst natuurlijk veilig &amp; direct via een webservice op jullie systemen</a:t>
            </a:r>
            <a:r>
              <a:rPr b="0" lang="nl-NL" sz="2100" spc="-1" strike="noStrike">
                <a:solidFill>
                  <a:srgbClr val="ffffff"/>
                </a:solidFill>
                <a:latin typeface="Arial"/>
              </a:rPr>
              <a:t>.</a:t>
            </a:r>
            <a:endParaRPr b="0" lang="en-US" sz="2100" spc="-1" strike="noStrike">
              <a:solidFill>
                <a:srgbClr val="ffffff"/>
              </a:solidFill>
              <a:latin typeface="Arial"/>
            </a:endParaRPr>
          </a:p>
          <a:p>
            <a:pPr marL="3636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88"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89"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90"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A8FD-CB3F-4D1E-AD0A-EC09B7AA15B6}"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100" spc="-1" strike="noStrike">
                <a:solidFill>
                  <a:srgbClr val="ffffff"/>
                </a:solidFill>
                <a:latin typeface="Franklin Gothic Book"/>
              </a:rPr>
              <a:t>Globale technische uitwerking</a:t>
            </a:r>
            <a:endParaRPr b="0" lang="en-US" sz="4100" spc="-1" strike="noStrike">
              <a:solidFill>
                <a:srgbClr val="ffffff"/>
              </a:solidFill>
              <a:latin typeface="Franklin Gothic Book"/>
            </a:endParaRPr>
          </a:p>
        </p:txBody>
      </p:sp>
      <p:sp>
        <p:nvSpPr>
          <p:cNvPr id="292" name=""/>
          <p:cNvSpPr txBox="1"/>
          <p:nvPr/>
        </p:nvSpPr>
        <p:spPr>
          <a:xfrm>
            <a:off x="456840" y="1600200"/>
            <a:ext cx="8147160" cy="452592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et een aantal </a:t>
            </a:r>
            <a:r>
              <a:rPr b="1" i="1" lang="nl-NL" sz="2800" spc="-1" strike="noStrike">
                <a:solidFill>
                  <a:srgbClr val="ffffff"/>
                </a:solidFill>
                <a:latin typeface="Arial"/>
              </a:rPr>
              <a:t>voorstellen !</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één bericht voor alles</a:t>
            </a:r>
            <a:endParaRPr b="0" lang="en-US" sz="2800" spc="-1" strike="noStrike">
              <a:solidFill>
                <a:srgbClr val="ffffff"/>
              </a:solidFill>
              <a:latin typeface="Arial"/>
            </a:endParaRPr>
          </a:p>
          <a:p>
            <a:pPr>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tekenis van StUF-entiteiten af te spreken</a:t>
            </a:r>
            <a:endParaRPr b="0" lang="en-US" sz="2800" spc="-1" strike="noStrike">
              <a:solidFill>
                <a:srgbClr val="ffffff"/>
              </a:solidFill>
              <a:latin typeface="Arial"/>
            </a:endParaRPr>
          </a:p>
          <a:p>
            <a:pPr>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uitsluitend Di02-bericht t.b.v. synchroon berichtenverkeer</a:t>
            </a:r>
            <a:endParaRPr b="0" lang="en-US" sz="2800" spc="-1" strike="noStrike">
              <a:solidFill>
                <a:srgbClr val="ffffff"/>
              </a:solidFill>
              <a:latin typeface="Arial"/>
            </a:endParaRPr>
          </a:p>
          <a:p>
            <a:pPr>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part schema zonder gebruik van het restriction mechanisme</a:t>
            </a:r>
            <a:endParaRPr b="0" lang="en-US" sz="2800" spc="-1" strike="noStrike">
              <a:solidFill>
                <a:srgbClr val="ffffff"/>
              </a:solidFill>
              <a:latin typeface="Arial"/>
            </a:endParaRPr>
          </a:p>
          <a:p>
            <a:pPr>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iet alle StUF-entiteiten uit de sectormodellen Basisgegevens en Zaken opnemen</a:t>
            </a:r>
            <a:endParaRPr b="0" lang="en-US" sz="2800" spc="-1" strike="noStrike">
              <a:solidFill>
                <a:srgbClr val="ffffff"/>
              </a:solidFill>
              <a:latin typeface="Arial"/>
            </a:endParaRPr>
          </a:p>
        </p:txBody>
      </p:sp>
      <p:sp>
        <p:nvSpPr>
          <p:cNvPr id="293"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94"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295"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628D-015A-4CE2-8EBE-05D6835A5F74}"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keuzes te maken in het spanningsveld tussen </a:t>
            </a:r>
            <a:r>
              <a:rPr b="1" i="1" lang="nl-NL" sz="3000" spc="-1" strike="noStrike">
                <a:solidFill>
                  <a:srgbClr val="ffffff"/>
                </a:solidFill>
                <a:latin typeface="Arial"/>
              </a:rPr>
              <a:t>simpelheid</a:t>
            </a:r>
            <a:r>
              <a:rPr b="0" lang="nl-NL" sz="3000" spc="-1" strike="noStrike">
                <a:solidFill>
                  <a:srgbClr val="ffffff"/>
                </a:solidFill>
                <a:latin typeface="Arial"/>
              </a:rPr>
              <a:t> (bijv. zo min mogelijk elementen en relaties) en </a:t>
            </a:r>
            <a:r>
              <a:rPr b="1" i="1" lang="nl-NL" sz="3000" spc="-1" strike="noStrike">
                <a:solidFill>
                  <a:srgbClr val="ffffff"/>
                </a:solidFill>
                <a:latin typeface="Arial"/>
              </a:rPr>
              <a:t>bruikbaarheid</a:t>
            </a:r>
            <a:r>
              <a:rPr b="0" lang="nl-NL" sz="3000" spc="-1" strike="noStrike">
                <a:solidFill>
                  <a:srgbClr val="ffffff"/>
                </a:solidFill>
                <a:latin typeface="Arial"/>
              </a:rPr>
              <a:t> voor sterk uiteenlopende situatie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verleg met toekomstige gebruikers van StUF-Lite is belangrijk</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299"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300"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DC44-BF6F-4E8B-BEF5-4E568A1AF934}"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Franklin Gothic Book"/>
              </a:rPr>
              <a:t>Conclusie 2</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UF is in de praktijk lastig te gebruiken voor eenvoudige toepassinge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Aanbeveling</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ij StUF doorontwikkeling aandacht besteden aan vereenvoudiginge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Tijdelijke aanduiding voor datum 3"/>
          <p:cNvSpPr/>
          <p:nvPr/>
        </p:nvSpPr>
        <p:spPr>
          <a:xfrm>
            <a:off x="457200" y="6421320"/>
            <a:ext cx="2133720" cy="365400"/>
          </a:xfrm>
          <a:prstGeom prst="rect">
            <a:avLst/>
          </a:prstGeom>
          <a:noFill/>
          <a:ln w="0">
            <a:noFill/>
          </a:ln>
        </p:spPr>
        <p:style>
          <a:lnRef idx="0"/>
          <a:fillRef idx="0"/>
          <a:effectRef idx="0"/>
          <a:fontRef idx="minor"/>
        </p:style>
        <p:txBody>
          <a:bodyPr lIns="90000" rIns="9000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2-2-2011</a:t>
            </a:r>
            <a:endParaRPr b="0" lang="en-US" sz="1000" spc="-1" strike="noStrike">
              <a:solidFill>
                <a:srgbClr val="ffffff"/>
              </a:solidFill>
              <a:latin typeface="Cambria"/>
            </a:endParaRPr>
          </a:p>
        </p:txBody>
      </p:sp>
      <p:sp>
        <p:nvSpPr>
          <p:cNvPr id="304" name="Tijdelijke aanduiding voor voettekst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9b9a98"/>
                </a:solidFill>
                <a:latin typeface="Cambria"/>
              </a:rPr>
              <a:t>Ad Gerrits, Gemeente Nijmegen</a:t>
            </a:r>
            <a:endParaRPr b="0" lang="en-US" sz="1000" spc="-1" strike="noStrike">
              <a:solidFill>
                <a:srgbClr val="ffffff"/>
              </a:solidFill>
              <a:latin typeface="Cambria"/>
            </a:endParaRPr>
          </a:p>
        </p:txBody>
      </p:sp>
      <p:sp>
        <p:nvSpPr>
          <p:cNvPr id="305" name="Tijdelijke aanduiding voor dianummer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8776-25F5-46F4-9F05-076BB9D5B508}" type="slidenum">
              <a:rPr b="0" lang="nl-NL" sz="1000" spc="-1" strike="noStrike">
                <a:solidFill>
                  <a:srgbClr val="9b9a98"/>
                </a:solidFill>
                <a:latin typeface="Cambria"/>
              </a:rPr>
              <a:t>&lt;number&gt;</a:t>
            </a:fld>
            <a:endParaRPr b="0" lang="en-US" sz="1000" spc="-1" strike="noStrike">
              <a:solidFill>
                <a:srgbClr val="ffffff"/>
              </a:solidFill>
              <a:latin typeface="Cambr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07:51:56Z</dcterms:created>
  <dc:creator>Ad Gerrits</dc:creator>
  <dc:description/>
  <dc:language>en-US</dc:language>
  <cp:lastModifiedBy>Ad Gerrits</cp:lastModifiedBy>
  <dcterms:modified xsi:type="dcterms:W3CDTF">2011-02-01T22:29:04Z</dcterms:modified>
  <cp:revision>52</cp:revision>
  <dc:subject/>
  <dc:title>Eenvoudig StUF</dc:title>
</cp:coreProperties>
</file>